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1FFA-F628-4C06-BA50-88444F9A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7DDE-C625-4AFC-A6F8-BEDD9FE0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E678-6C9C-43A1-BEEE-67A92C42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682B-3FAE-4CF2-9DFB-044E570D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3ABA-CBE2-45D1-844A-9D1EA957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ED03-65C5-457A-AB0A-7858D8B6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A441-7B2F-4676-9B50-23DAAE06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B5D2-A1B7-4E37-B14A-4AD5274E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2950-ACCD-4C1F-B008-17E9A1B8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F1AF-6B38-4CE5-A86A-277743C3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447F-B0BC-4F7C-91DE-64B2B703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148E-B7D3-4DEB-A8AE-B5A0E111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9282-3CD6-46B2-BD2D-2927528A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6AE6-E56F-4226-9F7E-21B2C39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3DD2-F4AC-41FB-9F34-F9DD34E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945C-E658-47EE-910C-AB8B1482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50C3-2F8D-47C5-B916-5DAA77D1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787F-0887-4D2F-82F7-4EFFBEE3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72C7-3B14-4DCA-A1A8-2EAAEEE5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7373-B4CE-4F1B-94B5-82A83180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F8DD-06FD-4A8B-BCFF-6A549A46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D4F2-B4F8-4A53-A43D-C905A61F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2F0B-570D-4768-B365-19B48FED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9E82-EF4B-48DC-8194-9C32CC62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4A1E-847F-4D93-B45C-C5D03A34B1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9585-4002-4993-81F9-48BB2822DE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Можно ли существовать без нервной системы?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819520" cy="31435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920" y="11430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1752480"/>
            <a:ext cx="73152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з нервной системы существовать невозможно, так как она отвечает з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получение, хранение и переработку информации из внешней и внутренней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регуляцию и координацию деятельности всех органов и органных сист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dfdef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помощью данного проекта вы сможете сформировать знания об особенностях строения, функционирования нервной системы, а также выяснить «Можно ли существовать без нервной системы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крыть  значение и строение нервн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стематизировать знания о строении ней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ормулировать понятие нервн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733920" cy="2790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191120" y="914400"/>
            <a:ext cx="4267080" cy="2590920"/>
          </a:xfrm>
          <a:prstGeom prst="wedgeRoundRectCallout">
            <a:avLst>
              <a:gd name="adj1" fmla="val -43564"/>
              <a:gd name="adj2" fmla="val 70953"/>
              <a:gd name="adj3" fmla="val 166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дравствуйте, меня зовут нейрон. Предлагаю вам отправиться в удивительное, увлекательное путешествие по нервной системе человека и разгадать загадку о том, можно ли существовать без нервной системы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733920" cy="27910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914400" y="685800"/>
            <a:ext cx="4267080" cy="3124080"/>
          </a:xfrm>
          <a:prstGeom prst="wedgeRoundRectCallout">
            <a:avLst>
              <a:gd name="adj1" fmla="val 40027"/>
              <a:gd name="adj2" fmla="val 70680"/>
              <a:gd name="adj3" fmla="val 166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914400"/>
            <a:ext cx="3581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этого нам предстоит пройти не легкий путь и ответить на коварные задания, которые придумал злостный вредитель нервной системы – вирус Х (икс). В качестве подсказок вы можете использовать книги, плакаты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6477120" y="4343400"/>
            <a:ext cx="2057400" cy="2233440"/>
            <a:chOff x="6477120" y="4343400"/>
            <a:chExt cx="2057400" cy="223344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6477120" y="434340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6782040" y="62085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0" y="533520"/>
            <a:ext cx="6248520" cy="4495680"/>
          </a:xfrm>
          <a:prstGeom prst="wedgeEllipseCallout">
            <a:avLst>
              <a:gd name="adj1" fmla="val 49847"/>
              <a:gd name="adj2" fmla="val 4191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НЕРВНАЯ СИСТЕМ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это совокупность ……. в организме животных и человека, объединяющая деятельность всех …….. и систем, обеспечивающая ………. организма как единого целого в его постоянном взаимодействии с ……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7621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ить пропущенные с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5486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струк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1371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3440" y="2286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функцио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40600" y="571500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нешней сред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477120" y="3733920"/>
            <a:ext cx="2057400" cy="2233440"/>
            <a:chOff x="6477120" y="3733920"/>
            <a:chExt cx="2057400" cy="223344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6477120" y="373392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6782040" y="5599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0" y="533520"/>
            <a:ext cx="6248520" cy="4495680"/>
          </a:xfrm>
          <a:prstGeom prst="wedgeEllipseCallout">
            <a:avLst>
              <a:gd name="adj1" fmla="val 49847"/>
              <a:gd name="adj2" fmla="val 4191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7621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ь сх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295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рвная система (Н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19320" y="1981080"/>
            <a:ext cx="3504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19320" y="1981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1981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19320" y="28195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48320" y="28195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23623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920" y="2209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нтральная 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2133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ферическая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2819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809520" y="2819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33160" y="2819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2819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477120" y="3733920"/>
            <a:ext cx="2057400" cy="2233440"/>
            <a:chOff x="6477120" y="3733920"/>
            <a:chExt cx="2057400" cy="2233440"/>
          </a:xfrm>
        </p:grpSpPr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6477120" y="373392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782040" y="5599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076560" cy="411480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6705720" y="533520"/>
            <a:ext cx="2057400" cy="2233440"/>
            <a:chOff x="6705720" y="533520"/>
            <a:chExt cx="2057400" cy="2233440"/>
          </a:xfrm>
        </p:grpSpPr>
        <p:pic>
          <p:nvPicPr>
            <p:cNvPr id="557" name="" descr=""/>
            <p:cNvPicPr/>
            <p:nvPr/>
          </p:nvPicPr>
          <p:blipFill>
            <a:blip r:embed="rId2"/>
            <a:stretch/>
          </p:blipFill>
          <p:spPr>
            <a:xfrm>
              <a:off x="6705720" y="53352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010640" y="2398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371600" y="228600"/>
            <a:ext cx="4648320" cy="2057400"/>
          </a:xfrm>
          <a:prstGeom prst="wedgeEllipseCallout">
            <a:avLst>
              <a:gd name="adj1" fmla="val 61134"/>
              <a:gd name="adj2" fmla="val 964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533520"/>
            <a:ext cx="2895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писать части ней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053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14600" y="4495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09680" y="63244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3341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762120" y="3809880"/>
            <a:ext cx="2057400" cy="2233440"/>
            <a:chOff x="762120" y="3809880"/>
            <a:chExt cx="2057400" cy="223344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762120" y="380988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1067040" y="567504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3886200" y="457200"/>
            <a:ext cx="4267080" cy="2819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х, вы справились со всеми заданиями! Я уничтожен! Теперь Вы обладатели ключа от той двери, за которой спрятан ответ на вопрос « Можно ли существовать без нервной системы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49:40Z</dcterms:created>
  <dc:creator>user</dc:creator>
  <dc:description/>
  <dc:language>en-US</dc:language>
  <cp:lastModifiedBy>777</cp:lastModifiedBy>
  <dcterms:modified xsi:type="dcterms:W3CDTF">2011-03-17T09:54:0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